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2E06-FB82-4C39-9654-BE7E7419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7D9E-0FF8-419E-B582-08153059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B5EA-6DC8-449D-A022-DE1454CAE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9ACB-0F77-43C7-ADF3-80C4772FB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61AB-F9BA-47F0-86C2-352AC6205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6F00-14E7-46C1-81AA-410EB793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99C4-AE87-445D-83CD-587BD65D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110E-C2E9-483F-8437-88B5135D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33D3-9499-4DCB-AF65-94F96C00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4478-49BB-4499-8C12-3C873DF9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8D4F-5A95-4541-ACB7-8D9A24B1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B004-A5E4-457D-A8C4-E97DB849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0628-B9F4-41B0-8EAB-CC85A30C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7244-9B4A-4086-BD85-DE9F7A30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77BE-FB50-49E7-8130-D6CDEF1D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9815-93D0-424E-A082-22172F8F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F74C-0754-45DD-9B74-7AA67497D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F82C-E863-4942-9150-8F041BCE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F53A-EAC3-406B-9D2C-0A0D45B3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0B3A-3EAD-4172-852F-F7D5A7FA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76DD-20C3-41DE-840A-B420AF7B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251C-A02A-49ED-8410-D82960A6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7DBA-2386-4F77-9276-B86A2F5B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EFDB-044E-40D0-A6BE-C9F34170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3D2D-3F94-4F75-B050-70E56E3AEDC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DD6C-14D3-438A-B365-28B8C9CFFCC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RMS Update to TAC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ember 29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MS Activity Summa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X SET Procedures Guide Upd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eTrak Phase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ion ID Updates Prior to Nod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 Cart Budg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X SET Procedures Guide Updat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SzPct val="6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“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pproved” Texas SET Working Group Procedures documentation, changes include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ff000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reating guidelines for implementing change control request received outside of version releases (RMS Action item from August RMS meeting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ff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ocumenting Timeline for updates to TX SET Implementation Guides for a Version Releas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ff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ocumenting Texas SET Acceptable Extended Character SETs for Alphanumeric data fields in the Texas SET transactions and SEF File process,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ff0000"/>
              </a:buClr>
              <a:buSzPct val="6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pdating website references, 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ff0000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Re-organizing the flow of the docu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MarkeTrak Phase 2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ailed Requirements Documents Defin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gned off on by Task Force Participa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bmitted to ERCOT for Pla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 Level Testing Requirements Defined and Submitted to TX Test Plan Te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ation ID Updates Prior to Nod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roximately 2 million ESI ID Upd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igns naming nomencl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COT requested direction from R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MS directed to follow process used for Annual Valida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ification to Market Participants before end of November 20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I ID Updates to be coordinated through February and March at approximately 30K/day on weekdays and 50K on weekend days with no conflict to ERCOT maintenance or release windo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RO Cart Budget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$7.1M Budgeted for 20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$2.9M Allocated in 20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RCOT Showed Allocation of $2.5M to IO, CO and 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$1.6M Still to be alloca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MS Requested ERCOT to return to RMS to Provide Detail of Funding Allocation for 20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486400" cy="4952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Question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13:47:10Z</dcterms:created>
  <dc:creator>AEP</dc:creator>
  <dc:description/>
  <dc:language>en-US</dc:language>
  <cp:lastModifiedBy>AEP</cp:lastModifiedBy>
  <dcterms:modified xsi:type="dcterms:W3CDTF">2007-11-20T16:12:13Z</dcterms:modified>
  <cp:revision>48</cp:revision>
  <dc:subject/>
  <dc:title>RMS Update to TAC</dc:title>
</cp:coreProperties>
</file>